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FAC-1417-4B9C-9CDC-02713DF0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426-E6DA-465D-AF2E-8FC092E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A26-6141-408B-8422-71696C80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20F-5DA4-4C34-8375-54380214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214-99A1-43AC-B1EE-254C843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4C6-8573-48D6-A382-5F04296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440-4786-401E-B847-6B40684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C6F-47EC-4323-AB70-A914EE3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DAE-4D13-4E6F-A99C-6D07769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61A-17B3-4D41-9D36-BBA50BA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579-EFD1-4D71-99F6-6A1C9DE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115-B90A-43B2-BB09-E2C937E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EF9-0427-414E-AF70-21BC1B02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3"/>
          <p:cNvSpPr/>
          <p:nvPr/>
        </p:nvSpPr>
        <p:spPr>
          <a:xfrm>
            <a:off x="0" y="0"/>
            <a:ext cx="5715000" cy="76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21 &amp; 22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ix Weeks Focus TEST next block d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762120"/>
            <a:ext cx="37339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Focus tod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pen up you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x Weeks Focus Document and check for the following foc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1 &amp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7 &amp;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9 &amp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25 &amp;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3 &amp;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5 &amp;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ages.nationalgeographic.com/wpf/media-live/photos/000/004/cache/african-lion-male_436_600x450.jpg"/>
          <p:cNvPicPr/>
          <p:nvPr/>
        </p:nvPicPr>
        <p:blipFill>
          <a:blip r:embed="rId2"/>
          <a:stretch/>
        </p:blipFill>
        <p:spPr>
          <a:xfrm>
            <a:off x="4191120" y="10666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44" name="Cloud Callout 6"/>
          <p:cNvSpPr/>
          <p:nvPr/>
        </p:nvSpPr>
        <p:spPr>
          <a:xfrm>
            <a:off x="6553080" y="0"/>
            <a:ext cx="1752840" cy="1527120"/>
          </a:xfrm>
          <a:prstGeom prst="cloudCallout">
            <a:avLst>
              <a:gd name="adj1" fmla="val -46078"/>
              <a:gd name="adj2" fmla="val 97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781680" y="4572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focus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23T13:40:31Z</dcterms:modified>
  <cp:revision>131</cp:revision>
  <dc:subject/>
  <dc:title>Slide 1</dc:title>
</cp:coreProperties>
</file>